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26D9-71E3-4AC0-B732-E72D7CDD5BB9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11B9-8135-483B-8E1E-0EDAF6F689F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61DA-2660-43B7-A22A-478A3E9E76F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22D8-B1FA-4D75-B62E-7EEC934EDD5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C035-64CE-4BBC-ABCC-7E0AAD020EE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9E21-F24E-423B-A1D6-8650D6F1FE9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C2B-12A4-4B6E-AFD9-D4254C621C9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6D83-7506-4525-9091-C3604F41048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92D0-F94A-443E-A6D0-86F72FD5287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573F-76ED-4463-8162-E52761A34BD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FA5-9D3B-4361-A2AF-2F95262A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25D-3B47-4B23-88C5-807C6D5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20C-C506-4E91-8CAC-D33597E8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20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776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20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C07-A450-4B9E-B6CD-39580AA3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59A6-A767-4E9B-A6D9-50B8D911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C5B3-702E-4D13-B78B-E90F35D7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ABFD-0561-4992-8684-23E15D4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F06C-77E4-441A-83B6-407EA5A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53E3-6924-40D8-8549-9033084C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2743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8105-7561-44ED-8A7B-1B4A4BB6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1A31-B106-45FC-BF46-EEB722C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55D-E064-4BD7-B64E-998F4EDB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9E9F-B7A1-423D-BA85-35569D0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4221-4D56-4EB7-B1CC-0942AFA8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7D4F-112F-41C0-890C-579BFF34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31D5-E5A5-4DAA-BB5D-34B129DA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20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333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776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220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4CEE-83BA-418C-B453-DB5CFDAA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7E12-8910-4F07-BFF3-10EC0C13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ADEC-2C52-4E29-88D0-E26BDEFE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F57D-901B-47CE-BD3C-C306920C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9D62-6F57-4B5C-88E3-718E608B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7092-F1B1-4CE8-A376-01F9EAA1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F79-4E9E-4D9B-8BFB-5CCB44F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33360" y="2743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08E2-1442-42C9-85DB-2FBA4ED7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38F2-DD7A-4DD0-BD43-039FCFC4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087F5-F2EE-4654-AE93-2510AE94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5408-F2E5-42D2-ABD3-B9756D4A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0B10-2BC3-4C5A-95A3-B21A7C60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628D-6D35-4279-83CD-64425DFB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220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1333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4776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220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F5960-B6A9-4288-B6EA-252D44D2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E4B-A317-4C52-A249-718DEBA7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70D-3F4B-482B-96D8-94E1F81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2743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45E-5642-4238-BD1E-78A29A2A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AC0-B70F-4919-9C04-1F199FA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603-C70E-4200-AD40-A81F0566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9F0-FE0D-46D4-9C71-F3200DC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B135-40BC-4BBE-9C5A-1933A07E8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F2FC-0360-4652-8F8D-35E0C22D9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0BCF-652D-4B33-8DC7-8A58DC152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it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0024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iikettä vastustava vo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-1089000" y="0"/>
            <a:ext cx="10233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kstikehys 3"/>
          <p:cNvSpPr/>
          <p:nvPr/>
        </p:nvSpPr>
        <p:spPr>
          <a:xfrm>
            <a:off x="1384560" y="6000840"/>
            <a:ext cx="51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 kitkaa emme pysty liikkumaa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715080" y="571680"/>
            <a:ext cx="1685880" cy="2295360"/>
          </a:xfrm>
          <a:prstGeom prst="rect">
            <a:avLst/>
          </a:prstGeom>
          <a:ln w="0">
            <a:noFill/>
          </a:ln>
        </p:spPr>
      </p:pic>
      <p:sp>
        <p:nvSpPr>
          <p:cNvPr id="135" name="Tekstikehys 2"/>
          <p:cNvSpPr/>
          <p:nvPr/>
        </p:nvSpPr>
        <p:spPr>
          <a:xfrm>
            <a:off x="500040" y="107172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aulat ja ruuvit eivät py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einä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6643800" y="4143240"/>
            <a:ext cx="1604880" cy="1814760"/>
          </a:xfrm>
          <a:prstGeom prst="rect">
            <a:avLst/>
          </a:prstGeom>
          <a:ln w="0">
            <a:noFill/>
          </a:ln>
        </p:spPr>
      </p:pic>
      <p:sp>
        <p:nvSpPr>
          <p:cNvPr id="137" name="Tekstikehys 4"/>
          <p:cNvSpPr/>
          <p:nvPr/>
        </p:nvSpPr>
        <p:spPr>
          <a:xfrm>
            <a:off x="3078720" y="428616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ulitikku ei sytty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k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1680" y="1071720"/>
            <a:ext cx="403848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ka vastustaa liikettä ja liikkeelle lähtöä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219640" y="208116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056200" y="4240080"/>
            <a:ext cx="31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ikehys 11"/>
          <p:cNvSpPr/>
          <p:nvPr/>
        </p:nvSpPr>
        <p:spPr>
          <a:xfrm>
            <a:off x="2174760" y="300024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tka johtuu pintojen epätasaisuud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kstikehys 13"/>
          <p:cNvSpPr/>
          <p:nvPr/>
        </p:nvSpPr>
        <p:spPr>
          <a:xfrm>
            <a:off x="1893240" y="3714840"/>
            <a:ext cx="743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tkan suuruuteen vaikuttaa kosketuspintoj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teriaali ja kappaleen pa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itkasta on hyöty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43200" y="157176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gän pohj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nrenk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kotetulla tiell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ipeille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rutetta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orakulmio 1"/>
          <p:cNvSpPr/>
          <p:nvPr/>
        </p:nvSpPr>
        <p:spPr>
          <a:xfrm>
            <a:off x="3714840" y="14288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eissa (lämp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ihdettäess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lumilautailu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yrität työntää kappalet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ovi nari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kstikehys 2"/>
          <p:cNvSpPr/>
          <p:nvPr/>
        </p:nvSpPr>
        <p:spPr>
          <a:xfrm>
            <a:off x="3872520" y="57168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tkasta on hait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crate1"/>
          <p:cNvPicPr/>
          <p:nvPr/>
        </p:nvPicPr>
        <p:blipFill>
          <a:blip r:embed="rId1"/>
          <a:stretch/>
        </p:blipFill>
        <p:spPr>
          <a:xfrm>
            <a:off x="0" y="285840"/>
            <a:ext cx="3629160" cy="2504880"/>
          </a:xfrm>
          <a:prstGeom prst="rect">
            <a:avLst/>
          </a:prstGeom>
          <a:ln w="0">
            <a:noFill/>
          </a:ln>
        </p:spPr>
      </p:pic>
      <p:sp>
        <p:nvSpPr>
          <p:cNvPr id="149" name="Tekstikehys 2"/>
          <p:cNvSpPr/>
          <p:nvPr/>
        </p:nvSpPr>
        <p:spPr>
          <a:xfrm>
            <a:off x="2886480" y="214200"/>
            <a:ext cx="59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epokitka vastustaa liikkeelle lähtöä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ikehys 3"/>
          <p:cNvSpPr/>
          <p:nvPr/>
        </p:nvSpPr>
        <p:spPr>
          <a:xfrm>
            <a:off x="2859480" y="3357720"/>
            <a:ext cx="51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iikekitka vastustaa liukumis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MCj01558050000[1]"/>
          <p:cNvPicPr/>
          <p:nvPr/>
        </p:nvPicPr>
        <p:blipFill>
          <a:blip r:embed="rId1"/>
          <a:stretch/>
        </p:blipFill>
        <p:spPr>
          <a:xfrm>
            <a:off x="357120" y="642960"/>
            <a:ext cx="3124440" cy="2603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3143160"/>
            <a:ext cx="5072040" cy="3714840"/>
          </a:xfrm>
          <a:prstGeom prst="rect">
            <a:avLst/>
          </a:prstGeom>
          <a:ln w="0">
            <a:noFill/>
          </a:ln>
        </p:spPr>
      </p:pic>
      <p:sp>
        <p:nvSpPr>
          <p:cNvPr id="153" name="Tekstikehys 3"/>
          <p:cNvSpPr/>
          <p:nvPr/>
        </p:nvSpPr>
        <p:spPr>
          <a:xfrm>
            <a:off x="3094560" y="214200"/>
            <a:ext cx="55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ierimiskitka vastustaa vierimist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ikehys 5"/>
          <p:cNvSpPr/>
          <p:nvPr/>
        </p:nvSpPr>
        <p:spPr>
          <a:xfrm>
            <a:off x="5134680" y="3429000"/>
            <a:ext cx="39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kekitka pysäyttää liikkee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kstikehys 1"/>
          <p:cNvSpPr/>
          <p:nvPr/>
        </p:nvSpPr>
        <p:spPr>
          <a:xfrm>
            <a:off x="1465200" y="57168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vi narisee. Onko kitkaa liikaa vai liian vähä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ikehys 3"/>
          <p:cNvSpPr/>
          <p:nvPr/>
        </p:nvSpPr>
        <p:spPr>
          <a:xfrm>
            <a:off x="475920" y="1285920"/>
            <a:ext cx="81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tto luistaa jalkasi alta. Onko kitkaa liikaa vai liian vähä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ikehys 4"/>
          <p:cNvSpPr/>
          <p:nvPr/>
        </p:nvSpPr>
        <p:spPr>
          <a:xfrm>
            <a:off x="345240" y="2071800"/>
            <a:ext cx="87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ukastut banaaninkuoreen. Liikaa kitkaa vai liian vähän kitka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ikehys 5"/>
          <p:cNvSpPr/>
          <p:nvPr/>
        </p:nvSpPr>
        <p:spPr>
          <a:xfrm>
            <a:off x="2952360" y="30002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tä seuraavissa tilanteis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ikehys 6"/>
          <p:cNvSpPr/>
          <p:nvPr/>
        </p:nvSpPr>
        <p:spPr>
          <a:xfrm>
            <a:off x="4799160" y="364320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kset lipsuvat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ikehys 7"/>
          <p:cNvSpPr/>
          <p:nvPr/>
        </p:nvSpPr>
        <p:spPr>
          <a:xfrm>
            <a:off x="4654800" y="421488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uto joutuu vesiliirt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kstikehys 8"/>
          <p:cNvSpPr/>
          <p:nvPr/>
        </p:nvSpPr>
        <p:spPr>
          <a:xfrm>
            <a:off x="4573080" y="478620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lkupyörässäsi on kuulalaak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5:58:00Z</dcterms:created>
  <dc:creator>Ritva Tamminen</dc:creator>
  <dc:description/>
  <dc:language>en-US</dc:language>
  <cp:lastModifiedBy>Ritva Tamminen</cp:lastModifiedBy>
  <dcterms:modified xsi:type="dcterms:W3CDTF">2009-09-16T16:48:57Z</dcterms:modified>
  <cp:revision>6</cp:revision>
  <dc:subject/>
  <dc:title>Kitka</dc:title>
</cp:coreProperties>
</file>